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589-77A4-4C11-A371-27F5AA38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721-17D9-4B1E-BFA1-C768C68F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D83-2846-4AE8-BAA5-72A0DCE6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F99-34D5-4B8A-930E-6AC899B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4F57-AA8A-4007-A21D-CE437896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229-1B9A-492B-AC0B-2920F14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4A6-6E61-483B-8E01-05F7011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0A4-8953-4344-A18B-51C63BBD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8ED3-5671-4155-9FB3-7862548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D7A-21D9-452D-B9ED-0B2A8300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0CD-2443-44BD-AFA3-EC54611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A8C-2219-4C99-904D-8DC0D21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30D7-D5FC-4930-8281-D890F16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E263-5525-4574-9C95-38BA376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112-01EF-4E22-B4EC-17F7D4E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9D9-1E57-437D-BD2B-50EF8236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5F4-55EC-4645-9542-735CEF27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07D-787A-4355-993B-1C0BBAB3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F96-E40A-4B58-9A74-DC58AC1A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A28-6477-404C-98A6-E0BD3A9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173-2F75-49E6-B8BB-B270AE9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AC4-136A-4370-9476-70DF19A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36F-D047-44F0-81C2-1AF7CAB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8FD-C409-4D59-847F-6EF7589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C07-1517-45A6-AF9A-A730170C03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E715-9B4F-4967-91DE-0323C63C31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040" y="6446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gg</cp:lastModifiedBy>
  <dcterms:modified xsi:type="dcterms:W3CDTF">2006-06-10T09:40:33Z</dcterms:modified>
  <cp:revision>5</cp:revision>
  <dc:subject/>
  <dc:title>Integers</dc:title>
</cp:coreProperties>
</file>