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6405-B709-4F9C-9E94-E47578EC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5C86-CC8E-4E03-A186-F8A16DCB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CB9-EE0E-4B08-BFC0-3886367A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9246-57D1-4074-98A7-D6E919C3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D4D8-7592-48B9-A8BC-49BE93CE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DA29-51EF-456A-AE79-3DB39179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A80A-F812-4DD2-9186-73B1BCF6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39BA-571D-42DF-91B0-797BC7A0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9BA6-6DA6-4547-8682-998EEA59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EBB0-0610-43E1-ABAF-AE621323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BD3C-CA17-448B-84BF-1E564827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7AC2-59C9-433D-93D9-84BB1307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536D-E6BD-4D49-9869-DB6FC166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9E84-4DC0-4495-96A4-7A6553A6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2B01-F7F5-458D-8E89-2ED9EDC6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6B17-6CB1-4D18-A150-4C494B38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27E7-A95B-4C8B-BF15-00C62470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D8CD-B595-4D15-A97C-A309157B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6329-E92F-4AA4-A611-8C637016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A2FD-553C-4F1E-9A9C-0625E5F3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E987-000A-4D62-B358-4614EF9F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3024-2107-4A92-9E69-701EE25C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521-DA6F-41A0-8F2D-855F3666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7425-B1B8-4E5B-9F22-0B64B3F1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A3B7-A945-4509-8AD2-D57F589C6C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18A9-A3E3-4F77-BE9E-C55CE21A9B1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Integers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3040" y="644688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cc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cc00cc"/>
                </a:solidFill>
                <a:uFillTx/>
                <a:latin typeface="Arial"/>
                <a:ea typeface="Arial"/>
                <a:hlinkClick r:id="rId1"/>
              </a:rPr>
              <a:t>http://www.worldofteaching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 of the numbers being multiplied are the same, multiply the numbers--The sign of the answer is posi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 of the numbers being multiplies are different, multiply the numbers--The sign of the answer is nega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Divis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e as the rules for multiplication of Integ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et of whole numbers and their opposi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Operations with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dd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btr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ultipli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vis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75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75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75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Addi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the same, add their absolute values--The sign of the answer is the same as the sign of the numbers added togeth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signs of the numbers being added are different, subtract their absolute values--The sign of the answer is the same as the number with the largest absolute val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Subtrac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14240" y="4876560"/>
            <a:ext cx="52578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 the opposite and refer to the addition rules (change the subtraction to addition and change the sign of the number being subtracte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Multiplication of Integer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358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7:19:43Z</dcterms:created>
  <dc:creator>Randall Neal</dc:creator>
  <dc:description/>
  <dc:language>en-US</dc:language>
  <cp:lastModifiedBy>gg</cp:lastModifiedBy>
  <dcterms:modified xsi:type="dcterms:W3CDTF">2006-06-10T09:40:33Z</dcterms:modified>
  <cp:revision>5</cp:revision>
  <dc:subject/>
  <dc:title>Integers</dc:title>
</cp:coreProperties>
</file>