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827-2C9D-4541-8714-B06584AC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2B3-AF36-44CE-93C5-565D66E0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5F1-B68E-40C2-83F2-6C9FB4A2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A79-3D56-4223-AC99-4C780105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BDB8-3AB7-4179-8370-0DED788B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DDB4-AB86-4BFE-AC33-2F5FA018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1807-5CFD-457B-8559-08B354AC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5B46-C66A-4D09-A1C0-2E0DD196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2203-D97F-4918-9E86-FEF9DEF5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1349-B95B-417D-AFFE-7CFF78DD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A73B-02D9-4867-AE94-79124AAE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17F-37CD-4983-BE37-C404C1BE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FC5B-7396-4B88-A160-1E6E05D6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3F81-610D-4759-87AF-64385E70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D997-AB02-4E37-B6C8-A3AE1B43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89B2-DD4E-4F17-A4B5-CC612A8C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6140-9757-4778-B332-0DB9AC20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5A5-3FAF-4A73-94E3-05B3BAB5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9E9-FA1D-4B63-BBD1-97172333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D7C-C3D5-446A-B712-5A42FC65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32C-5D28-4A33-B05C-E701BA7C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7CA-5E0A-4C27-A4A4-B264175D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C4A-7C79-4C5E-966E-F6ACE794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410-1892-430B-BFCE-1DCBE310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C66F-F634-47D5-886D-726978A6CB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ACD6-EDBE-48AD-973D-87D5406EFB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3040" y="6446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cc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cc00cc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Divis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Operations with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Addi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ubtrac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14240" y="4876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Multiplica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19:43Z</dcterms:created>
  <dc:creator>Randall Neal</dc:creator>
  <dc:description/>
  <dc:language>en-US</dc:language>
  <cp:lastModifiedBy>gg</cp:lastModifiedBy>
  <dcterms:modified xsi:type="dcterms:W3CDTF">2006-06-10T09:40:33Z</dcterms:modified>
  <cp:revision>5</cp:revision>
  <dc:subject/>
  <dc:title>Integers</dc:title>
</cp:coreProperties>
</file>