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7C6A-26F1-41C4-8628-C2B6C108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02C8-B315-4431-817D-CA50A7F8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E97B-9825-43D7-85A2-FBEC0BA8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B87A-F358-4620-B1C9-5CA828B5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0EE8-BEAB-4779-A726-1E9E97D8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42A9-C963-455C-A000-1D7EBF1A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760D-2A03-47F3-9B34-920B43C5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CEC6-2871-427E-9175-9621ECDC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9757-F254-4B29-BFFA-3B8A6799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63FA-BB18-46B7-9E07-256F44A3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885D-D032-4A5F-BE55-DE77FDF9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F224-5937-493E-8F70-A1304717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F521-B70F-4265-A78B-CFEC53FD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164F-F5C8-4B7B-B562-AE8F8A4C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DAB6-3CFB-424A-A6DD-B7D1B660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E983-A265-4F0A-B53B-B4E6164E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26F2-5138-4DA1-9E6E-C8C922DE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6C44-A7CE-459B-932C-1376329B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6DBC-3297-4CA3-8D8E-3198A744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6478-9C9A-4D8E-983B-B39BDC04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7679-00DA-499C-9BFC-1EE956CF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7CF8-025F-4877-B0B4-A551EB35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5373-FEA3-4C9D-B8AF-DE04C453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EC62-6AE8-4A32-933E-F16FD464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EBE0-E4B8-4AA4-9248-851D783ED8A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3F54-9761-4658-BAE5-BEF6B73D4CE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Integers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3040" y="644688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cc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cc00cc"/>
                </a:solidFill>
                <a:uFillTx/>
                <a:latin typeface="Arial"/>
                <a:ea typeface="Arial"/>
                <a:hlinkClick r:id="rId1"/>
              </a:rPr>
              <a:t>http://www.worldofteaching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 of the numbers being multiplied are the same, multiply the numbers--The sign of the answer is posi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 of the numbers being multiplies are different, multiply the numbers--The sign of the answer is nega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Divis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e as the rules for multiplication of Integ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et of whole numbers and their opposi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Operations with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ddi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btr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ultipli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vis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75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75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75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75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Addi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the same, add their absolute values--The sign of the answer is the same as the sign of the numbers added togeth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different, subtract their absolute values--The sign of the answer is the same as the number with the largest absolute val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Subtrac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14240" y="4876560"/>
            <a:ext cx="52578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 the opposite and refer to the addition rules (change the subtraction to addition and change the sign of the number being subtracte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Multiplica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358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17:19:43Z</dcterms:created>
  <dc:creator>Randall Neal</dc:creator>
  <dc:description/>
  <dc:language>en-US</dc:language>
  <cp:lastModifiedBy>gg</cp:lastModifiedBy>
  <dcterms:modified xsi:type="dcterms:W3CDTF">2006-06-10T09:40:33Z</dcterms:modified>
  <cp:revision>5</cp:revision>
  <dc:subject/>
  <dc:title>Integers</dc:title>
</cp:coreProperties>
</file>